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7C5-65B9-4213-8183-8A5CB163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8FD-4131-4493-9C70-76700607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002-23E0-4DA4-9FE0-B5A156E8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AE2-02E2-4BDF-B4B6-0BED3B7A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069-FFEE-4C75-B60E-6F25ADFF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F55-9E1D-4503-B605-2890ABF9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6EB-860C-42B5-A6BE-DBAD88CF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9C8-A90A-4CC0-AEAA-19603A00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3F6-B531-42D8-816D-F4231C1B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196-6C66-4663-925C-2209E4C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948-CF1A-47E5-9F04-162E09FA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05C-1783-464E-8E13-124032F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1111C-7DCC-421B-B4CB-BA17C0D240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prefer a coun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ach state is allowed to set its own laws on importa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Where important laws were set by the federal government (and so they are consistent from state to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396" r="0" b="0"/>
          <a:stretch/>
        </p:blipFill>
        <p:spPr>
          <a:xfrm>
            <a:off x="990720" y="1219320"/>
            <a:ext cx="7010280" cy="5194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and Confederacy, 18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Civil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6781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952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 Sumter (18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7242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609624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RTH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ES OF RAIL 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8,5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2680"/>
            <a:ext cx="883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port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,500,0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tons – 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ze of Arm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.9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1.2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Unio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ad 32 times the firearms production of the </a:t>
            </a: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Confederac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 vs. 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root cause of the Civil War, the biggest debate between North and South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ether slavery was a good or bad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r debate wa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decide laws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federal government make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hould each state set its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itution states that the federal gov’t holds “supremacy” over the states in cert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of this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claimed that the federal government was overstepping it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 (in particular) threatened to nullify federal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dvantages of letting states decide their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in the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4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0120"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lavery (for various reas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federal power (on issue of slavery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cratic Par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agricultural      (slave-base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Slav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States’ Righ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533520"/>
            <a:ext cx="624816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Civil Wa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5867280"/>
            <a:ext cx="4086360" cy="55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cript MT Bold"/>
              </a:rPr>
              <a:t>Elected President 18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4290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342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South Carolina secedes from th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ississippi, Florida, Alabama, Georgia, Louisiana, and Tex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onfederate States of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7680" y="1554120"/>
            <a:ext cx="1801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tle flag of the Confede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4479840"/>
            <a:ext cx="1554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fferson Davi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of the Confed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00200"/>
            <a:ext cx="4014720" cy="4524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C.S.A. Con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nstitution of negro slavery as it now exists in the Confederate States, shall be recognized and protected by Congr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13795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4685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6:40:59Z</dcterms:created>
  <dc:creator>Dominic Lambek</dc:creator>
  <dc:description/>
  <dc:language>en-US</dc:language>
  <cp:lastModifiedBy/>
  <dcterms:modified xsi:type="dcterms:W3CDTF">2014-06-03T17:39:05Z</dcterms:modified>
  <cp:revision>3</cp:revision>
  <dc:subject/>
  <dc:title>Presidential Election</dc:title>
</cp:coreProperties>
</file>